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DDB-AAFB-4FB4-A7AE-363B9909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4D0-01C6-4917-B19D-54883474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CD3-8306-4CF6-889B-DA4FF5B0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5E3-641B-4BBA-93DC-41097227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45D-0CBE-48E5-AF83-B579F58F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061-5C07-4FC5-BFF5-858C9F4C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522-DAE7-4BAC-A33C-D394823E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4CB-E0E2-4190-B420-9C4E8419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0C7-55AC-47F1-AD2E-8CB09537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BD9-1E71-4C79-81D6-70B795C7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445-D859-4532-8BBC-B7217678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ED8-7661-4D9C-8F52-5FB292BA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9068-369D-4DE1-86AB-89610CA92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tilizing Socratic Semina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as a formative assess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in the UbD/DI Classroom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3366ff"/>
                </a:solidFill>
                <a:latin typeface="Kristen ITC"/>
              </a:rPr>
              <a:t>Focus Question: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How will we utilize Checking for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Understanding to incre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students’ comprehensio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5333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81764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The HOW of Socratic Semi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Opening…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Core…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Clos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2096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0481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324480" y="2209320"/>
            <a:ext cx="19051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7200" y="464832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4648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4648320"/>
            <a:ext cx="1981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4080" y="3098880"/>
            <a:ext cx="11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op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72120" y="3138480"/>
            <a:ext cx="11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op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1440" y="42051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ersonal/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79160" y="42051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63880" y="4205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25280" y="34434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More clos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2840" y="5424480"/>
            <a:ext cx="216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sk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Kristen ITC"/>
              </a:rPr>
              <a:t>identify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rich id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from th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5424480"/>
            <a:ext cx="205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sk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Kristen ITC"/>
              </a:rPr>
              <a:t>discuss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th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5440" y="5348160"/>
            <a:ext cx="289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sk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Kristen ITC"/>
              </a:rPr>
              <a:t>personalize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Kristen ITC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he ideas inherent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The WHY of Socratic Semi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wo most important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ntellectu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Evidenced through critical thinking, analysis,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synthesis,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Soc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Evidenced through communication skills including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listening and spe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Socratic Seminar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s an instrument to Check for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219320"/>
            <a:ext cx="1676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219320"/>
            <a:ext cx="1981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752480"/>
            <a:ext cx="380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ng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Focused on “big ide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ause reader to ask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apture ima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rrative or inform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1752480"/>
            <a:ext cx="358164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o right or wrong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Reflect wonder and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Require students to think, search, evaluate, wonder, in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tural and contin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733920"/>
            <a:ext cx="1981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facilit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267080"/>
            <a:ext cx="41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emonstrate “habits of min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Model reflective and thoughtful 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Have thorough understanding of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rust the process, allow group to come to their own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733920"/>
            <a:ext cx="2133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4267080"/>
            <a:ext cx="329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isten a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Share ideas, opinions,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Search for evidence to support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Respect othe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Understanding By Desig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Planning With the End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Stag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What should students know, understand and be able to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What enduring understandings / essential questions will be explor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Stage 2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How will we know when students have achieved the desired resul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What will we accept as evidence of student proficien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Stage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What knowledge and skills will students need to perform effectively and achieve</a:t>
            </a:r>
            <a:r>
              <a:rPr b="0" lang="en-US" sz="1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proficien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2057400"/>
            <a:ext cx="19814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resul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3352680"/>
            <a:ext cx="19047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cce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4800600"/>
            <a:ext cx="17528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lan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n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9761600">
            <a:off x="6705720" y="2361960"/>
            <a:ext cx="733320" cy="838080"/>
          </a:xfrm>
          <a:custGeom>
            <a:avLst/>
            <a:gdLst>
              <a:gd name="textAreaLeft" fmla="*/ 98280 w 733320"/>
              <a:gd name="textAreaRight" fmla="*/ 635040 w 7333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297200">
            <a:off x="7772040" y="3733560"/>
            <a:ext cx="733320" cy="990360"/>
          </a:xfrm>
          <a:custGeom>
            <a:avLst/>
            <a:gdLst>
              <a:gd name="textAreaLeft" fmla="*/ 98280 w 733320"/>
              <a:gd name="textAreaRight" fmla="*/ 635040 w 73332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917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Understanding by Design                    Differentiated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914400"/>
            <a:ext cx="3581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ndy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Kristen ITC"/>
              </a:rPr>
              <a:t>What and Why of teaching</a:t>
            </a:r>
            <a:r>
              <a:rPr b="0" i="1" lang="en-US" sz="16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Kristen ITC"/>
              </a:rPr>
              <a:t>-a curriculum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4708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91440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ndy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Kristen ITC"/>
              </a:rPr>
              <a:t>Who, Where, and How of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Kristen ITC"/>
              </a:rPr>
              <a:t>- an instruction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752480"/>
            <a:ext cx="31240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Identify big ideas and core processes within content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etermine relative importance of content within 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429000"/>
            <a:ext cx="2743200" cy="266688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Worth be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familiar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4343400"/>
            <a:ext cx="2286000" cy="16765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Important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know a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5029200"/>
            <a:ext cx="16002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End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752480"/>
            <a:ext cx="365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eachers can different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2514600"/>
            <a:ext cx="9144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251460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251460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200400"/>
            <a:ext cx="34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ased on the studen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733920"/>
            <a:ext cx="914400" cy="761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733920"/>
            <a:ext cx="914400" cy="761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733920"/>
            <a:ext cx="914400" cy="7617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4648320"/>
            <a:ext cx="16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hroug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5029200"/>
            <a:ext cx="1371600" cy="1066680"/>
          </a:xfrm>
          <a:prstGeom prst="hexagon">
            <a:avLst>
              <a:gd name="adj" fmla="val 32146"/>
              <a:gd name="vf" fmla="val 11547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grou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029200"/>
            <a:ext cx="1285920" cy="1066680"/>
          </a:xfrm>
          <a:prstGeom prst="hexagon">
            <a:avLst>
              <a:gd name="adj" fmla="val 30138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Meaning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5029200"/>
            <a:ext cx="1523880" cy="1066680"/>
          </a:xfrm>
          <a:prstGeom prst="hexagon">
            <a:avLst>
              <a:gd name="adj" fmla="val 35715"/>
              <a:gd name="vf" fmla="val 11547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Ongo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assessm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Integrating UbD and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2209680"/>
            <a:ext cx="733680" cy="137160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2666880"/>
            <a:ext cx="733680" cy="137160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038480"/>
            <a:ext cx="4952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y close the gap betw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what students </a:t>
            </a:r>
            <a:r>
              <a:rPr b="1" lang="en-US" sz="2000" spc="-1" strike="noStrike">
                <a:solidFill>
                  <a:srgbClr val="000000"/>
                </a:solidFill>
                <a:latin typeface="Kristen ITC"/>
              </a:rPr>
              <a:t>already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nd what they </a:t>
            </a:r>
            <a:r>
              <a:rPr b="1" lang="en-US" sz="2000" spc="-1" strike="noStrike">
                <a:solidFill>
                  <a:srgbClr val="000000"/>
                </a:solidFill>
                <a:latin typeface="Kristen ITC"/>
              </a:rPr>
              <a:t>need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1295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When teachers continually atten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     </a:t>
            </a:r>
            <a:r>
              <a:rPr b="1" lang="en-US" sz="2400" spc="-1" strike="noStrike">
                <a:solidFill>
                  <a:srgbClr val="3366ff"/>
                </a:solidFill>
                <a:latin typeface="Kristen ITC"/>
              </a:rPr>
              <a:t>curriculum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  and   </a:t>
            </a:r>
            <a:r>
              <a:rPr b="1" lang="en-US" sz="2400" spc="-1" strike="noStrike">
                <a:solidFill>
                  <a:srgbClr val="99cc00"/>
                </a:solidFill>
                <a:latin typeface="Kristen ITC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502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ndy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Kristen ITC"/>
              </a:rPr>
              <a:t>Howev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56386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How do we know when they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69960" y="171288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971800"/>
            <a:ext cx="1447920" cy="17524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Gui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nform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mpro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3048120"/>
            <a:ext cx="1371600" cy="16761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rov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3124080"/>
            <a:ext cx="2286000" cy="15242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ncre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student awar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of how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self-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1447920"/>
            <a:ext cx="59436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Formative assessments allow teach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Checking for Understanding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 systematic approach to formative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124080"/>
            <a:ext cx="2286000" cy="15242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etermine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ntervention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eeded/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4" idx="2"/>
            <a:endCxn id="81" idx="0"/>
          </p:cNvCxnSpPr>
          <p:nvPr/>
        </p:nvCxnSpPr>
        <p:spPr>
          <a:xfrm flipH="1">
            <a:off x="1180440" y="2133720"/>
            <a:ext cx="3467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4" idx="2"/>
            <a:endCxn id="82" idx="0"/>
          </p:cNvCxnSpPr>
          <p:nvPr/>
        </p:nvCxnSpPr>
        <p:spPr>
          <a:xfrm>
            <a:off x="4648320" y="2133720"/>
            <a:ext cx="32011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4" idx="2"/>
            <a:endCxn id="86" idx="0"/>
          </p:cNvCxnSpPr>
          <p:nvPr/>
        </p:nvCxnSpPr>
        <p:spPr>
          <a:xfrm flipH="1">
            <a:off x="3200040" y="2133360"/>
            <a:ext cx="14486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4" idx="2"/>
            <a:endCxn id="83" idx="0"/>
          </p:cNvCxnSpPr>
          <p:nvPr/>
        </p:nvCxnSpPr>
        <p:spPr>
          <a:xfrm>
            <a:off x="4647960" y="2133360"/>
            <a:ext cx="11437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304920" y="5000760"/>
            <a:ext cx="8991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hecking fo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523880"/>
            <a:ext cx="1371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D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1760" y="152388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83240" y="2263680"/>
            <a:ext cx="3400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Ora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Projects &amp; perform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Common assessments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Collaborative sc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Kristen ITC"/>
              </a:rPr>
              <a:t>Ques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981080"/>
            <a:ext cx="17524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Identif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and confr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misconce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2895480"/>
            <a:ext cx="2438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etermine w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students know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what they need to k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419720"/>
            <a:ext cx="17524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Modify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vali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5257800"/>
            <a:ext cx="2438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etermine whi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interven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necessary / eff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Gui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Do I know what misconceptions or assumptions student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do I know what they underst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at evidence will I accept as evidence of their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will I use their understanding to guide and plan future instr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Checking for Understanding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houl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lign with enduring understa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llow for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cus on closing the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Lead to precise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The WHAT of Socratic Semi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n instructional method/assessment tool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Common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sk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eading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Collaborative, intellectual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21:08:46Z</dcterms:created>
  <dc:creator>Morales</dc:creator>
  <dc:description/>
  <dc:language>en-US</dc:language>
  <cp:lastModifiedBy>North Rockland High School</cp:lastModifiedBy>
  <dcterms:modified xsi:type="dcterms:W3CDTF">2008-09-19T21:48:03Z</dcterms:modified>
  <cp:revision>17</cp:revision>
  <dc:subject/>
  <dc:title>Understanding By Design Planning With the End in Mind</dc:title>
</cp:coreProperties>
</file>